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D62-2DC7-4971-AEF3-2456218D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23D-D643-4D94-A149-7457879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56D-F043-468E-BCDC-1C9CEA64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932-669C-4BB1-BBE0-F06CEB75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D8C-1923-4AF6-9411-8BBE9F7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C3C-EA5A-45E9-A58A-640ECD5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B71-466C-45FE-A3FC-CDF4CF9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0F9-0B01-48F4-AC10-DEF0A75C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2AD-5882-4D74-88D9-C97946B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21F-08E8-4915-A511-A45D10F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C2D-B212-4729-994A-0E24245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92F-0FE5-4461-ABDF-0CDC88A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5BA7-B3D4-4E53-AC2B-705753F42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3640" y="620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414972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rc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414972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393372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x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32360" y="62064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épti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32360" y="3933720"/>
            <a:ext cx="360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ctav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404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ve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640" y="620640"/>
            <a:ext cx="36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ci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3429000"/>
            <a:ext cx="89247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° 2° 3° 4° 5°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° 7° 8° 9° 10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5:35:46Z</dcterms:created>
  <dc:creator>Usuario</dc:creator>
  <dc:description/>
  <dc:language>en-US</dc:language>
  <cp:lastModifiedBy>Usuario</cp:lastModifiedBy>
  <dcterms:modified xsi:type="dcterms:W3CDTF">2008-01-28T15:51:13Z</dcterms:modified>
  <cp:revision>2</cp:revision>
  <dc:subject/>
  <dc:title>Diapositiva 1</dc:title>
</cp:coreProperties>
</file>